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planning sequ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iculum expectation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planning sequ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iculum expectation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stribute appropriate lesson goal to grade 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is was the lesson goal – does this problem provide students opportunities demonstrate their learning of this 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Both groups will share their observations with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dentify connection between responses and possible learning goal(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hen planning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onsider the lesson goal in connection to the curriculum expectation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onsider if/how the question will allow students to demonstrate their understanding of this go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f time remai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ovide participants an opportunity to review and revise concept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Journal Reflection: Reflect on a lesson that has really hit the target.  Describe the elements that were pres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dds of hitting your target go up dramatically when you aim at it.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Mal Panco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r of Thought: Hitting Unseen Target</a:t>
            </a:r>
            <a:r>
              <a:rPr b="0" lang="en-CA" sz="1200" spc="-1" strike="noStrike">
                <a:solidFill>
                  <a:srgbClr val="000000"/>
                </a:solidFill>
                <a:latin typeface="Lucida Grande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articipants reflect on quote and story - impact and connections to plen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ocus of this story is intended to be for the teacher, planning without a goal in mind is like trying to hit a target blindfol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en planning for students teachers must have the goal clearly in mind - the learning tasks provide students the opportunity to hit the targe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pen conversation regarding placement of a learning goal in the math lesson.  Process vs........ content learning goals and their plac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creen shot of article will disappear on cl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ist of sections to read will then appear with same cl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is article provides background information, including specifics regarding multiplicative and additive think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following sections of Recognising the Difference Between Additive and Multiplicative Thinking in Young Child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Results (Sections of inter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onclusion &amp; I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ppendix:  Description of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Butterfly House (K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entipede’s 100 Shoes (3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llow grade groups access to picture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answer question (in more than one 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ovide student work samples to grad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analyze sample student responses and make connections to expec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s to lesson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goal to consolidating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as learning - co-constructing “what a great answer looks lik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nts answer question in more than one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planning sequ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iculum expectation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planning sequ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iculum expectation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planning sequ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iculum expectation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nts solve question in more than on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4A0A-AD14-4B3C-92E3-C46FD056F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D6AF-7AAB-43C7-9552-77B0E07CD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D02F-E0F2-4F9E-93FB-2720058B2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DABA-97AE-4793-BE77-6CF6B54A5C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1DAD-FA9F-41A1-865A-40110A4ED1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E3C0-BE58-4088-8B62-18A2ADB60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67DD-7047-42AE-A536-73A8B5414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B15B3-2B81-4E33-9AB5-3F3EDD181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44DF-FBB7-40DA-85AA-10087AD2A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6261C-1DD8-49E4-8071-4E95A4A0F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6F88D-BB7A-45E6-9C44-A920B89FA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DCFE2-81A7-42DE-92F1-98BFE217A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EB75-D0DC-4DB7-A6AE-01FFE2AF51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821C-51AB-4BE2-A048-16ED1DD1FF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:</a:t>
            </a: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42478"/>
                </a:solidFill>
                <a:latin typeface="Tahoma"/>
                <a:ea typeface="Tahoma"/>
              </a:rPr>
              <a:t>Learning Goals &amp; Consolidating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2478"/>
                </a:solidFill>
                <a:latin typeface="Tahoma"/>
                <a:ea typeface="Tahoma"/>
              </a:rPr>
              <a:t>Breakout 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2478"/>
                </a:solidFill>
                <a:latin typeface="Tahoma"/>
                <a:ea typeface="Tahoma"/>
              </a:rPr>
              <a:t>K - Grad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entipede’s 100 Shoes - Gr. 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problems that arise from real-life situations and that relate to the magnitude of whole numbers up to 1000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 multiplication of one-digit numbers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real-life situations, using a variety of tools and strategi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gin to see sets of numbers multiplicatively (recognize multiplicand OR multiplier) and experiment using multiplication as a solution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entipede’s 100 Shoes - Gr. 4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problems involving the multiplication of one-digit whole-numbers, using a variety of mental strategies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relationships that involve simple whole-number multiplic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dentify the multiplicative nature of sets of numbers (recognize multiplicand AND multiplier) (animal legs and number of animals) and use multiplication as a solution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684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ss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- Use counting and/or addition as a solution strategy.  Recognize the quantity of number increasing as numbers are ad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. 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- See the additive nature of numbers.  Use addition or skip-counting as a solution strategy.  Recognize the quantity of number increasing as numbers are adde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.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gin to see connections between repeated addition and multiplication.  Explore multiplicand (2 wings) and multiplier (number of butterflies).  Use addition, skip-counting, or experiment with multiplication as a solution strateg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. 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gin to see sets of numbers multiplicatively (recognize multiplicand OR multiplier) and experiment using multiplication as a solution strateg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. 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entify the multiplicative nature of sets of numbers (recognize multiplicand AND multiplier) (animal legs and number of animals) and use multiplication as a solution strateg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60800" y="6248520"/>
            <a:ext cx="508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d the ques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Hi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 the target</a:t>
            </a:r>
            <a:r>
              <a:rPr b="0" lang="en-CA" sz="2800" spc="-1" strike="noStrike">
                <a:solidFill>
                  <a:srgbClr val="000000"/>
                </a:solidFill>
                <a:latin typeface="Lucida Grande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sk yourself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d this question provide students the opportunity to demonstrate the lesson go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d this ques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Hi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 the target</a:t>
            </a:r>
            <a:r>
              <a:rPr b="0" lang="en-CA" sz="2800" spc="-1" strike="noStrike">
                <a:solidFill>
                  <a:srgbClr val="000000"/>
                </a:solidFill>
                <a:latin typeface="Lucida Grande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Times New Roman"/>
              </a:rPr>
              <a:t>Journal Reflection: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Reflect on a lesson that has really “hit the target”.  Describe the elements that were pres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1905120"/>
            <a:ext cx="329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odds of hitting your target go up dramatically when you aim at it.</a:t>
            </a: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Mal Panc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ction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following section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Recognising the Difference Between Additive and Multiplicative Thinking in Young Children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Lorraine Jacob &amp; Sue Will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(Sections of inter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 &amp; I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: Description of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tting The Target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2514600"/>
            <a:ext cx="64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- Gr. 2:  The Butterfly House by Eve B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8000" y="3505320"/>
            <a:ext cx="69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3-4:  Centipede’s 100 Shoes by Tony 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utterfly House:  K-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23920" y="1905120"/>
            <a:ext cx="4038840" cy="2286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ow man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ings on 26 butterfli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Butterfly House - 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4a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3700"/>
                </a:solidFill>
                <a:latin typeface="Arial"/>
              </a:rPr>
              <a:t>NS1.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an understanding of number relationships for numbers from 0 to 10, through investig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4a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a3700"/>
                </a:solidFill>
                <a:latin typeface="Arial"/>
              </a:rPr>
              <a:t>NS1.1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e addition and subtraction in everyday activities through the use of manipulativ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.g., interlocking cube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isual model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.g., a number line, tally marks, a hundreds carpe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oral explora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.g., dramatizing of song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se counting and/or addition as a solution strategy.  Recognize the quantity of number increasing as numbers are ad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Butterfly House - Gr. 1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problems involving the addition and subtraction of single-digit whole numbers, using a variety of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forward by 1’s, 2’s, 5’s and 10’s to 100, using a variety of tools and strateg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a variety of problems involving the addition and subtraction of whole numbers to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e the additive nature of numbers.  Use addition or skip-counting as a solution strategy.  Recognize the quantity of number increasing as numbers are add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Butterfly House - Gr. 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problems involving the addition and subtraction of one-and-two-digit whole numbers, using a variety of strategies, and investigate multiplication and divis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forward by 1’s, 2’s, 5’s,10’s and 25’s to 200, using number lines and hundreds charts, starting from multiples of 1, 2, 5, and 10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 and explain, through investigation using concrete materials and drawings, multiplication as the combining of equal group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gin to see connections between repeated addition and multiplication.  Explore multiplicand (2 wings) and multiplier (number of butterflies).  Use addition, skip-counting, or experiment with multiplication as a solutio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entipede’s 100 Shoes: Gr. 3-4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98000"/>
          </a:bodyPr>
          <a:p>
            <a:pPr marL="374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ntipede decides to give away his 100 sho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ives shoe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spiders (8 legs each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 worm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 woodlice (14 legs each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 beetles (6 legs eac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 grasshopper (6 legs eac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the author's math righ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centipede give away the right number of sho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omputer Services</cp:lastModifiedBy>
  <dcterms:modified xsi:type="dcterms:W3CDTF">2011-08-17T02:11:36Z</dcterms:modified>
  <cp:revision>108</cp:revision>
  <dc:subject/>
  <dc:title>&lt;Title&gt;</dc:title>
</cp:coreProperties>
</file>